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751-B4AF-478D-90FC-A2DA3DDA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345-6ECE-4EAD-AD31-C805BBC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78D-55A0-4F17-87D2-4D5DB6B9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9CF-C646-4E2F-82A5-B019FFA6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E68-2082-4319-BBF6-9BD8C98F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771-818E-4C39-8663-4321E17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8272-29CA-4659-9800-315CA560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DFEC-5B13-4BB1-9F14-93AF9D1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2EAB-9815-42F5-9CF5-82CB787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56E7-487F-4DFE-BC65-4D5B1F0A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27BB-937C-4C24-9CFA-D0F8519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B2C-B475-46B1-A68E-0636BEEF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A1DA-6947-4248-B1F3-4A3DFEA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2E20-CA4C-4F3B-81BE-9ED6521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5399-E160-499A-A95C-6890B96F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2B5-5490-435A-86D1-B23DF61E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ED7-5AFB-4DCE-9D3A-4B90A26E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5BF-CAA0-48EF-8B19-BE7E244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F9C-3E4E-47BE-85D8-51963E6B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4FC-7CB8-432F-B685-ED7E0C1A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70D-71DC-4C4E-95B0-BCA91AFB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DBE-A292-4C7E-BA74-EFA7AC1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B53-9D79-425D-B182-70ECC0F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E81-7E7A-4C73-8332-D929D67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4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4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7BF-8FB3-4D39-B065-9900BD2046A5}" type="slidenum">
              <a:rPr b="0" lang="en-US" sz="1400" spc="-1" strike="noStrike">
                <a:solidFill>
                  <a:srgbClr val="0604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D1FC-1FAB-4477-B592-E1674C838E4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Cornell%20Notes%201%20p%20Overview" TargetMode="External"/><Relationship Id="rId2" Type="http://schemas.openxmlformats.org/officeDocument/2006/relationships/hyperlink" Target="file:///../Local%20Settings/Temporary%20Internet%20Files/Content.IE5/Cornell%20Notes/Cornell%20Notes%201%20p%20Overview" TargetMode="External"/><Relationship Id="rId3" Type="http://schemas.openxmlformats.org/officeDocument/2006/relationships/hyperlink" Target="file:///../Local%20Settings/Temporary%20Internet%20Files/Content.IE5/Cornell%20Notes/Cornell%20Notes%201%20p%20Overview" TargetMode="External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Blank%20Tutor%20Cornell%20Notes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Costa&apos;s%20Three%20Story%20Intell%20.DOC" TargetMode="Externa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The%20Slant%20Method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y shoul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e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To minimize your “rate of forget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Dr. Walter Pauk, Cornell University Read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Don’t take notes = </a:t>
            </a:r>
            <a:r>
              <a:rPr b="0" lang="en-US" sz="2000" spc="-1" strike="noStrike">
                <a:solidFill>
                  <a:srgbClr val="dc1304"/>
                </a:solidFill>
                <a:latin typeface="Textile"/>
              </a:rPr>
              <a:t>Forget 60 % in 14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Take some notes = </a:t>
            </a:r>
            <a:r>
              <a:rPr b="0" lang="en-US" sz="2000" spc="-1" strike="noStrike">
                <a:solidFill>
                  <a:srgbClr val="dc1304"/>
                </a:solidFill>
                <a:latin typeface="Textile"/>
              </a:rPr>
              <a:t>Remember 6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Take organized notes and do something with them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    </a:t>
            </a:r>
            <a:r>
              <a:rPr b="0" lang="en-US" sz="2000" spc="-1" strike="noStrike">
                <a:solidFill>
                  <a:srgbClr val="dc1304"/>
                </a:solidFill>
                <a:latin typeface="Textile"/>
              </a:rPr>
              <a:t>Remember 90-100% indefinite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What ar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2"/>
              </a:rPr>
              <a:t>steps to t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3"/>
              </a:rPr>
              <a:t>Cornell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et up you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Draw your mar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Label clearly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Use your bes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ctively listen, analyze, ask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eview, revise, ref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Look over notes and highlight, edit, or add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Write your questions and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ays to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or score Cor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t first, take notes together, then ask students to write questions and reflections for homework; score only th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o a group scoring of several pages of Cornell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Use a numeric rubric to give formative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Have students score one another--match advanced notetakers to less st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y will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students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only do what you model consistently for them--each time you write something down, make sure to draw your margin and create a note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take notes because they are worth something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take notes because they are able to use them on ex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act according to h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r. Pauk created the Cornell Notetaking System, which is used at Stanford, UCLA’s School of Engineering, most Law Schools, and of course, at Cornell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The Cornell System requires the student to review notes and think critically after learning has take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828800"/>
            <a:ext cx="3505320" cy="4038480"/>
          </a:xfrm>
          <a:prstGeom prst="foldedCorner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5257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200400"/>
            <a:ext cx="1295640" cy="307080"/>
          </a:xfrm>
          <a:prstGeom prst="borderCallout1">
            <a:avLst>
              <a:gd name="adj1" fmla="val 18750"/>
              <a:gd name="adj2" fmla="val -8333"/>
              <a:gd name="adj3" fmla="val 119671"/>
              <a:gd name="adj4" fmla="val -2119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xtile"/>
              </a:rPr>
              <a:t>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72320" y="1916280"/>
            <a:ext cx="1014480" cy="307080"/>
          </a:xfrm>
          <a:prstGeom prst="borderCallout1">
            <a:avLst>
              <a:gd name="adj1" fmla="val 18750"/>
              <a:gd name="adj2" fmla="val -8333"/>
              <a:gd name="adj3" fmla="val 3277"/>
              <a:gd name="adj4" fmla="val -414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xtile"/>
              </a:rPr>
              <a:t>Lab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46960" y="3992400"/>
            <a:ext cx="914400" cy="337320"/>
          </a:xfrm>
          <a:prstGeom prst="borderCallout1">
            <a:avLst>
              <a:gd name="adj1" fmla="val 18750"/>
              <a:gd name="adj2" fmla="val -8333"/>
              <a:gd name="adj3" fmla="val -25050"/>
              <a:gd name="adj4" fmla="val -93898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xtile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410080"/>
            <a:ext cx="1387440" cy="307080"/>
          </a:xfrm>
          <a:prstGeom prst="borderCallout1">
            <a:avLst>
              <a:gd name="adj1" fmla="val 18750"/>
              <a:gd name="adj2" fmla="val -8333"/>
              <a:gd name="adj3" fmla="val 67212"/>
              <a:gd name="adj4" fmla="val -423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xtile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en shoul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e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5235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Notes are a record of your learning, so take them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listen to a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read a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watch a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work in a group on an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need to recall information about what happened to you in a class, meeting, or activity--which means alway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What do you notice that is different about Cornell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They are divided into two parts: questions and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e0802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802"/>
                </a:solidFill>
                <a:latin typeface="Textile"/>
              </a:rPr>
              <a:t>There is a reflection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e0802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802"/>
                </a:solidFill>
                <a:latin typeface="Textile"/>
              </a:rPr>
              <a:t>There is room for a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They are labeled with name, date, class, period or oth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typ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questions sh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Questions which are answered in the notes on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Questions you still need the answer to--ask a friend or the teacher 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Questions the teacher might ask on a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Higher level think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else c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Key terms, vocabulary words, or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Diagrams o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Reference pages in a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Steps in a 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Notes to myself about actions I need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only what is most importa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listen for repetition, change in pace or volume, numbering, explicit clues (“this is important,” or “on the tes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atch for gestures, or clues to organiza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look for material being written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own by instructor or shared in a visual m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in your own words (para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using abbreviations (check a dictionary for these and create your 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raw a figure or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Leave space where you think you might need to “fill in” info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Use bullets, arrows, and indenting to list key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legi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ctively 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Use </a:t>
            </a:r>
            <a:r>
              <a:rPr b="0" lang="en-US" sz="20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S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Maintain eye contact with the speaker, group, or presentation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Nod your head at appropriat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Frown when you do not 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sk relevant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nswer questions posed by the i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Make a written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8:19:33Z</dcterms:created>
  <dc:creator>Office of Superintendent</dc:creator>
  <dc:description/>
  <dc:language>en-US</dc:language>
  <cp:lastModifiedBy>AVID</cp:lastModifiedBy>
  <dcterms:modified xsi:type="dcterms:W3CDTF">2003-09-29T02:29:15Z</dcterms:modified>
  <cp:revision>15</cp:revision>
  <dc:subject/>
  <dc:title>Cornell Notetaking</dc:title>
</cp:coreProperties>
</file>